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38C-993C-4D8C-9826-47BBF7B7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BA77-F608-4025-8435-39CD44D4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016-F973-4D47-A8CE-2FC22B72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299-C44C-4184-BCD4-5474A009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9E1-6E23-4513-B674-A4E0D879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FF1-9CFB-478D-9FE9-57DD56D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384-C69D-4C95-9821-D33F5B39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EB09-4320-4F8E-A2DE-8330C48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45B-ADCC-484F-B03F-B492EB9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6914-D464-4535-BB01-9CCF59AC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9A09-0426-47D0-A9DF-09F8C96A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649F-AF7D-4CF0-A7A0-CA4BBFB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6914-0603-4D71-BD57-E647388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192-9108-47A2-8DB2-7B98E976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8D2-6222-446A-B7EE-6301733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DEF-D578-45DE-A677-2068D60D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CF5-6AFB-4C7F-8BE6-4375B7A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7D88-49F2-48CD-B362-8E39C0FF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9D35-9E12-4773-889B-DB112CC9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85F2-CE7A-4FA5-B80A-668DBE23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EFA7-35C0-4399-8ECC-659935CE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571D-F712-4C99-913A-E50AB7A7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B14B-FB29-4E5C-A8DF-70E7C19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AD4D-FF1D-4CF6-9D28-2386615D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720-AE81-440B-ADAB-B27747F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AD9B-3F7D-495B-954F-94032E00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343B-3605-4903-9C88-BD5D6C7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90EF-96AD-4938-B564-EB3DABB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E539-3B14-4605-9113-DCABD02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D4C4-128C-4274-BF5B-2B543F6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2AE9-772F-49B2-963E-0BAF86C2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6965-C793-4569-B963-CE922B91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9031-18F8-4A4B-9DA5-54D58F12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FBFC-BE5B-460D-8D06-45AA751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AEE6-6F21-4A32-B1AC-AEF3DD9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FC4-C0A1-4ACE-96DA-6B7CF466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FBDC-A6B1-440A-BCC7-85F5A02C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8859-8708-4F7A-A33B-9958302C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4EF7A-69FD-4BBD-B8FA-15C3A13A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DB76-6564-4A93-8A19-2598594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0DD9-3E0B-4171-A673-C07E94A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A082-6B4D-4CDA-88E7-2A3798A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EE5F-C8E5-42F6-B547-18DF9BCD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EFDF-64D7-40CC-B323-4DEAD631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DBCB-131C-4B28-B6A1-2A8AD711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24F6-9075-48C2-B00D-51F322BF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89C-3BDA-4527-844F-3A4DA737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1DC7D-868F-4FFA-9EB0-F33C66DF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77F6-88C0-4CC8-930A-91D1912E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3AA8B-3D23-4C69-AC34-7291AECB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44082-331E-4F0D-A8D2-15650570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5411-92FE-4DAF-B6C2-B91B5BD3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A56C-042A-4E60-8D51-FB974FF9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DF13-756E-42F5-8B93-5CC59E6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5656-7479-45A9-BA63-F759269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3316-2C51-4776-9BE4-2CB6E9F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14E53-F33A-4DD4-8AFD-2B7E349E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239-D965-4059-A46C-1714E290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0617-2AC2-432B-9111-90028FBD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084-100E-4BE5-A7F5-0DBD4C8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457-2573-48DC-BF19-B69A798D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E8C-8560-4082-90E7-2A0F114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CCC4-66EB-4C4B-A57B-F9B089D0A64E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5FF6-BA4F-4F61-A935-A7FB7A08BD0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022-102A-49C7-A486-D0609424738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B3BD-1B2E-4676-8463-239C2FB4FB9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65CF-CC25-451C-91B1-A6DE25B81D6B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47D-223B-4A75-8697-8868693F309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CF70-3107-428D-9C36-A71D0852158A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462C-868C-479D-86AA-9284A191198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5CFD-9E7A-49A6-B315-1D0D3E52EECC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A21-19C9-4217-896E-7B93A02323A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mailto:maija.placena@inbox.l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4" descr=""/>
          <p:cNvPicPr/>
          <p:nvPr/>
        </p:nvPicPr>
        <p:blipFill>
          <a:blip r:embed="rId1"/>
          <a:stretch/>
        </p:blipFill>
        <p:spPr>
          <a:xfrm>
            <a:off x="3243240" y="944640"/>
            <a:ext cx="5499000" cy="1981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34920" y="4581360"/>
            <a:ext cx="622764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Maija Placēn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SIA Rostokas Aroma, pārtikas eksperts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vadošais audi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rebuchet MS"/>
              </a:rPr>
              <a:t>T. Mob.264432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87052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48B-BC4F-40C0-BB30-C09FA84598C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C725-9150-416D-A71A-446DBE7213B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542880" y="324000"/>
            <a:ext cx="7199280" cy="106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07640" y="1609200"/>
            <a:ext cx="6480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āciju iedalījums pēc form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ptauja – prezentācija (produkta izstrade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īva –iepazīstina un veicina produkta noieta tirg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 – KS paškontrole (kvalitates stabilitātes parbaude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 – UTN, standarta izpil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fesionalā degustācija, konkuss  –  speciālisti salīdzina analogos produktu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epirkuma komisijas degustā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1CC-464C-47AF-94DE-78981EB626CC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6265-ABDE-4DF0-BFF6-D7F79B8A74D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950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971640" y="1341360"/>
            <a:ext cx="67960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likumā paredzē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raugu pieņemšana, glabāšana, sagatavošan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mērķ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dalībniek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noris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vertēšanas kritērij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ustācijas protoko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ātu paziņo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0E7E-B947-4146-81D7-D90EEB184A43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42C-430C-4282-AD4A-939240BBC0A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573120" y="18900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510920" y="1628640"/>
            <a:ext cx="59770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 produktu pieņemšana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 uz aizdomu pamat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bāšanas laikā – paškontro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Iepakojuma vai produkta kopums – veselums, vizuālais novertēj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Smarža, garša, konsist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ācijas ak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valitates apliecināj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kta ak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E2E4-08A6-4FAB-A126-43E5B1FBBF9B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B399-D6B6-42A5-8001-17C298532EF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2400" y="158760"/>
            <a:ext cx="8180280" cy="96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368000" y="1233360"/>
            <a:ext cx="6327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ālā novē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Atbilstības apliecinājumu izvērtēšana  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	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(pavaddokumenti un kvalitātes sertifikāti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Marķējuma informācijas izvērtēšan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	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(sastāvdaļas dilstošā secībā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ntitatīvā novē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vēršana, mērīšana </a:t>
            </a: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verificēti instrumenti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zuālā novērtēšana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rāsa, forma, vesel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leptiskā (sensorā) nove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arša, smarža, konsist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83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62D7-A414-429C-A8CC-B963AC81C783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8510-8F65-451E-9702-745814D457C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792000" y="298440"/>
            <a:ext cx="6907320" cy="1427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224000" y="1609200"/>
            <a:ext cx="6472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ates novirzes piela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ārtikas preces izbrāķēšan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ugu izcelsmes produkt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ātri bojājošo produktu defekt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rbības ar dzīvnieku izcelsmes produkt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kas preces noraidīšana un atgrie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s apmaiņas iespē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7ADA-CEB7-4A8E-9CA4-F77DA2180072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458-1248-44E5-8154-F9BC72CD92F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8407080" cy="1506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952640"/>
            <a:ext cx="8305920" cy="406872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rebuchet MS"/>
              </a:rPr>
              <a:t>Maija Placēna</a:t>
            </a: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– pārtikas tehnologs, eksperts, vadošais audi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mob. 26443210</a:t>
            </a:r>
            <a:r>
              <a:rPr b="0" lang="lv-LV" sz="2300" spc="-1" strike="noStrike">
                <a:solidFill>
                  <a:srgbClr val="874396"/>
                </a:solidFill>
                <a:latin typeface="Trebuchet MS"/>
              </a:rPr>
              <a:t>;   </a:t>
            </a:r>
            <a:r>
              <a:rPr b="0" lang="lv-LV" sz="23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maija.placena@inbox.lv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ff"/>
                </a:solidFill>
                <a:latin typeface="Garamond"/>
              </a:rPr>
              <a:t>Paldies par uzmanību!!!</a:t>
            </a:r>
            <a:endParaRPr b="0" lang="en-US" sz="40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EE6-C098-44D5-9893-84DEB3FE71ED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006-E070-49B6-982D-36AE12133DB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042920" y="281160"/>
            <a:ext cx="7815240" cy="96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47480" y="1170000"/>
            <a:ext cx="88628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Tirgus izpē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Vajadzības apzināšana un iepirkuma mērķa noteikš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 u="sng">
                <a:solidFill>
                  <a:srgbClr val="ff0000"/>
                </a:solidFill>
                <a:uFillTx/>
                <a:latin typeface="Trebuchet MS"/>
              </a:rPr>
              <a:t>Pasūtītāja līmenī:</a:t>
            </a:r>
            <a:br>
              <a:rPr sz="1800"/>
            </a:b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apjoms </a:t>
            </a:r>
            <a:r>
              <a:rPr b="0" i="1" lang="lv-LV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 kārtējais patēriņš + nākotnes prognoze + rezerve (risks)</a:t>
            </a:r>
            <a:br>
              <a:rPr sz="1800"/>
            </a:b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tirgus izpēte </a:t>
            </a:r>
            <a:r>
              <a:rPr b="0" i="1" lang="lv-LV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 kvalitātes piedāvājums + cenas piedāvājum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Paredzamās līgumcenas noteikšana un salīdzināšana ar budžeta iespējām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Iepirkuma komisijas izveidošana, nepieciešamo ekspertu piesaistīš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Iepirkuma norises, veicamo uzdevumu un to izpildes termiņu noteikšana </a:t>
            </a:r>
            <a:r>
              <a:rPr b="0" i="1" lang="lv-LV" sz="2400" spc="-1" strike="noStrike">
                <a:solidFill>
                  <a:srgbClr val="000000"/>
                </a:solidFill>
                <a:latin typeface="Trebuchet MS"/>
              </a:rPr>
              <a:t>(laika grafika/iepirkuma plāna  sastādīšan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E43-7D70-4FC9-8537-81AA4090116E}" type="slidenum">
              <a:rPr b="0" lang="lv-LV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0" y="219240"/>
            <a:ext cx="8028000" cy="183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4920" y="5481720"/>
            <a:ext cx="8381880" cy="612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Garamond"/>
              </a:rPr>
              <a:t>Vai publiskais iepirkums beidzas ar līguma noslēgšanas mirkli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97A-90CA-4F8F-B101-62A2036A2A5C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362-145D-42F6-9C4C-1639B37A697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3024360" y="1773360"/>
            <a:ext cx="3600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792520" y="798480"/>
            <a:ext cx="583380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2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F2B-C02F-4A90-A3FA-5C3DA2767FA6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7F8-A381-41D3-B970-4723799659D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19280" y="873000"/>
            <a:ext cx="1692000" cy="1692360"/>
          </a:xfrm>
          <a:prstGeom prst="rect">
            <a:avLst/>
          </a:prstGeom>
          <a:solidFill>
            <a:srgbClr val="fef0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prasīj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agatavo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PIL+PA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Mkn Nr.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5111640" y="4653000"/>
            <a:ext cx="2778120" cy="17636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Garamond"/>
              </a:rPr>
              <a:t>Iepirkuma līg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Garamond"/>
              </a:rPr>
              <a:t>Izp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PAU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Mkn Nr.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95280" y="2349360"/>
            <a:ext cx="6336000" cy="24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Iepirkuma procedūra </a:t>
            </a:r>
            <a:r>
              <a:rPr b="1" lang="lv-LV" sz="3200" spc="-1" strike="noStrike">
                <a:solidFill>
                  <a:srgbClr val="000000"/>
                </a:solidFill>
                <a:latin typeface="Garamond"/>
              </a:rPr>
              <a:t>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438200" y="2895480"/>
            <a:ext cx="1838520" cy="1685880"/>
          </a:xfrm>
          <a:prstGeom prst="rect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Iepirk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izsludināš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Piedāvāju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gatav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689280" y="2895480"/>
            <a:ext cx="1422360" cy="1685880"/>
          </a:xfrm>
          <a:prstGeom prst="rect">
            <a:avLst/>
          </a:prstGeom>
          <a:solidFill>
            <a:srgbClr val="fb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dāvāju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aņem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un vērtē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400720" y="2898720"/>
            <a:ext cx="2050920" cy="1682640"/>
          </a:xfrm>
          <a:prstGeom prst="rect">
            <a:avLst/>
          </a:prstGeom>
          <a:solidFill>
            <a:srgbClr val="eba7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Līg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lēgšanas tiesīb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šķir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līguma slēg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6" descr=""/>
          <p:cNvPicPr/>
          <p:nvPr/>
        </p:nvPicPr>
        <p:blipFill>
          <a:blip r:embed="rId1"/>
          <a:stretch/>
        </p:blipFill>
        <p:spPr>
          <a:xfrm>
            <a:off x="371520" y="6480"/>
            <a:ext cx="8102520" cy="927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87280" y="764640"/>
            <a:ext cx="644544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atavošanās Iepirkuma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izsludināš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komisijas darb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rezultā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a slēgš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īguma izpil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ātes kontrole piegādes laik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aiņu vadība līguma izpildes laik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</a:t>
            </a:r>
            <a:r>
              <a:rPr b="1" lang="lv-LV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zpildes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ātu apkopošana un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6BE8-AB5F-42A9-B967-12B9CF9A4306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E4C0-B66E-4DBB-B7EB-3A19B749F0D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731880" y="79200"/>
            <a:ext cx="7594560" cy="1090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94920" y="1088640"/>
            <a:ext cx="626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onkursa rezultātu pierakstu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īguma slēgšanas vēs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iegāžu līguma izpildes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asūtījuma pieņemšana un plānošan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ransportēšanas nosacījumi pa produktu grupā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epakojuma atbilstīb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reces kvalitāt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pmaiņas iespēja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omunicēšan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ūdzības un ierosinājum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abie darb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1F2-289E-4DBC-AC11-2B3F0F547ABA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9BE-95A6-407D-B277-B72993DFE4D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762120" y="225360"/>
            <a:ext cx="6937200" cy="1013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18920" y="1088640"/>
            <a:ext cx="75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druka par apēstajiem produkti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Produktu grupēšana pa piegādātāj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Produktu grupēšana pa produktu grupā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ējo likumdošanas normatīvo prasību apzinā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ktu prečzinības apraksta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ktualiz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Tehniskā specifik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valitātes specifik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stāv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kāli – ķīmiskie, mikrobioloģiskie rādītā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leptiskie rādītā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ntroles meto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akojums, marķējums, uzglabāšana, apstrā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0BB2-3C57-4283-B3D5-720CB78C865D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01C0-36AE-429F-A236-18A0815C2C9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76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934560" y="1952640"/>
            <a:ext cx="356076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sūtītāj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valitatīv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niversāl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ažād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Ērt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ēt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7960" y="1915920"/>
            <a:ext cx="3811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egādātāj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āvīg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valitatīv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pecifisk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enveidīg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devīg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ārg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6B6F-A08C-42E9-B49D-4787CF21E4D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2498-A60D-4AC2-9214-1C124F206D3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966080" cy="95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71280" y="1304640"/>
            <a:ext cx="672444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jektīva meto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u vērtē pielietojuma specifiskajas atbilstība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akstīta un izriet no specifikācij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s pielietošanas informē pretendentus ar novērtēšanas pamatojumu un nepieciešamību lai izslēgtu rezultātu pārsūdzēšanas iespēj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salīdzināma ar akreditētu testēšanu, izriet no pasūtītāja tehniskām spējām un pasūtītāja vajadzībā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silta ēdiena ilgstoša uzglabāšana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saldētu produktu atlaidināšana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8C2-43C7-4069-A96F-B22F44A7DC0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A576-2808-41CE-A5AC-CDA8F4D708A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Marta Cekule</cp:lastModifiedBy>
  <dcterms:modified xsi:type="dcterms:W3CDTF">2014-03-14T14:17:08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